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332E-9F43-4E6E-A6D8-742D099AE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67AF-99F8-46FE-9DF9-A2F22549A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D59D-1EBC-4FF8-8649-74025AA33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DEB2-D891-4E73-B581-1EE1AF991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691C-E3CE-44D8-A4CA-752614BCF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48FD-4FEB-4563-946D-6DD2000C6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79F1-BFFB-4821-B1A4-815D2B1F6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E508-B2B3-46A9-ABF0-FC06A6DE5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FA65-FDE7-41ED-B020-B55D15EBB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316B-C4EB-4AFC-A190-D844A7C8E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0B03-42F9-4D42-80A3-7E63F4499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EE24-96A1-477A-AFAD-8729EE43D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F573-5B9A-432B-87D3-66E0A5B8F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99A5-CD00-47D0-A49E-09856430F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66CD-741C-4842-8282-77B84CBE9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EC89-EC54-4849-869D-2F099B35B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7F77-6123-43B8-A39B-81CAC82A4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3AD7-BB39-49B8-A1CB-05B4B551D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F0E9-A509-4791-A669-4F95FFD2C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61DA-7EC8-467E-9CB4-C54AF6E73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8523-9EA7-4107-82F7-D64DFD65B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6535-D11C-4232-A1DC-4C5A65D5C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A81D-0200-483B-AAE9-FE22E0FA9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7EB6-0094-4FE6-AB0E-24AF0B906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86E7-C713-448A-9FA5-44CEB6F31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FE71-4333-485E-BFF8-1D1A90FDA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520F-5BAF-4DE8-A038-0646EFC5D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1A36-365A-4444-97FB-D4D747369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913A-F60E-4644-99CF-35EDC837B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E1C4-3C2E-4EAD-8C83-FBEDE38A4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FAEF-7495-4D86-BD32-5F6566C0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27E4-AC89-4208-9C35-68BF737F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6AF-DD69-4049-956F-7AA0CFBB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89EB-1716-47B0-90AF-6259E3AD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0A68-3950-4925-845B-6D066C8B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EB44-829C-4089-B3AB-18AC958D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B4E1-F965-4958-AB22-C6E05D82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9BF5-EC19-47BB-961B-8156AF49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46A1-5511-474B-AC6C-59F37236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5EDA-B934-4AB6-8F50-EB69CED6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233-B98C-4380-9F05-1047FC62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7B64-A211-47C0-8E73-4156738C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C020-6E00-43B4-BDC8-ECE7F2FC9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_LuJGobrpw&amp;NR=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frontleft"/>
          <p:cNvPicPr/>
          <p:nvPr/>
        </p:nvPicPr>
        <p:blipFill>
          <a:blip r:embed="rId1">
            <a:lum bright="-60000"/>
          </a:blip>
          <a:stretch/>
        </p:blipFill>
        <p:spPr>
          <a:xfrm>
            <a:off x="0" y="0"/>
            <a:ext cx="9144000" cy="696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Lucida Calligraphy"/>
              </a:rPr>
              <a:t>Body Organization and Structu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3346200"/>
            <a:ext cx="3049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188x10_Dense_labeled"/>
          <p:cNvPicPr/>
          <p:nvPr/>
        </p:nvPicPr>
        <p:blipFill>
          <a:blip r:embed="rId1"/>
          <a:stretch/>
        </p:blipFill>
        <p:spPr>
          <a:xfrm>
            <a:off x="-228600" y="-571680"/>
            <a:ext cx="9601200" cy="8001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ONNECTIVE TISS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s, supports, protects, insulates, nourishes, and cushions organs.  It also keeps organs from falling ap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tissues"/>
          <p:cNvPicPr/>
          <p:nvPr/>
        </p:nvPicPr>
        <p:blipFill>
          <a:blip r:embed="rId1"/>
          <a:stretch/>
        </p:blipFill>
        <p:spPr>
          <a:xfrm>
            <a:off x="3276720" y="1905120"/>
            <a:ext cx="5867280" cy="4952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TISSUE + TISSUE= ORG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380880" y="1219320"/>
            <a:ext cx="9524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wo or more tissues working together, form a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gan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0" y="2666880"/>
            <a:ext cx="320040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One type of tissue alone cannot do all of the things that several types working together can 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sign_caution_blk_l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373392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200177291-001_4"/>
          <p:cNvPicPr/>
          <p:nvPr/>
        </p:nvPicPr>
        <p:blipFill>
          <a:blip r:embed="rId2"/>
          <a:stretch/>
        </p:blipFill>
        <p:spPr>
          <a:xfrm>
            <a:off x="4448160" y="838080"/>
            <a:ext cx="4483080" cy="6019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800080"/>
                </a:solidFill>
                <a:uFillTx/>
                <a:latin typeface="Arial Narrow"/>
              </a:rPr>
              <a:t>ORGAN + ORGAN = ORGA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334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gans working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ke up 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organ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8600" y="4724280"/>
            <a:ext cx="4191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ailure of any part can affect the enti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4495680" cy="5638680"/>
          </a:xfrm>
          <a:prstGeom prst="rect">
            <a:avLst/>
          </a:prstGeom>
          <a:solidFill>
            <a:srgbClr val="f6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umenta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ovascula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a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218960"/>
            <a:ext cx="4495680" cy="5638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tiv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mphatic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cri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11 MAJOR ORGA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68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68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8a83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33cc"/>
                </a:solidFill>
                <a:uFillTx/>
                <a:latin typeface="Arial Black"/>
              </a:rPr>
              <a:t>Integumentary Syst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80880" y="1142640"/>
            <a:ext cx="3581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 Black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 Black"/>
              </a:rPr>
              <a:t>  </a:t>
            </a:r>
            <a:r>
              <a:rPr b="0" lang="en-US" sz="4000" spc="-1" strike="noStrike">
                <a:solidFill>
                  <a:srgbClr val="0033cc"/>
                </a:solidFill>
                <a:latin typeface="Arial Black"/>
              </a:rPr>
              <a:t>Includes skin, hair, nails and their underlying</a:t>
            </a:r>
            <a:r>
              <a:rPr b="0" lang="en-US" sz="5400" spc="-1" strike="noStrike">
                <a:solidFill>
                  <a:srgbClr val="0033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Arial Black"/>
              </a:rPr>
              <a:t>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19679"/>
          <p:cNvPicPr/>
          <p:nvPr/>
        </p:nvPicPr>
        <p:blipFill>
          <a:blip r:embed="rId1"/>
          <a:stretch/>
        </p:blipFill>
        <p:spPr>
          <a:xfrm>
            <a:off x="3276720" y="1600200"/>
            <a:ext cx="586728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8a83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33cc"/>
                </a:solidFill>
                <a:uFillTx/>
                <a:latin typeface="Arial Black"/>
              </a:rPr>
              <a:t>Muscular Syst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5943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Skeletal muscles move bon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muscleman650"/>
          <p:cNvPicPr/>
          <p:nvPr/>
        </p:nvPicPr>
        <p:blipFill>
          <a:blip r:embed="rId1"/>
          <a:stretch/>
        </p:blipFill>
        <p:spPr>
          <a:xfrm>
            <a:off x="1523880" y="1447920"/>
            <a:ext cx="61912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8a83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33cc"/>
                </a:solidFill>
                <a:uFillTx/>
                <a:latin typeface="Arial Black"/>
              </a:rPr>
              <a:t>Skeletal Syst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 Black"/>
              </a:rPr>
              <a:t>Bones frame and protect body par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redir?src=image&amp;clickedItemURN=http%3A%2F%2Fwww"/>
          <p:cNvPicPr/>
          <p:nvPr/>
        </p:nvPicPr>
        <p:blipFill>
          <a:blip r:embed="rId1"/>
          <a:stretch/>
        </p:blipFill>
        <p:spPr>
          <a:xfrm>
            <a:off x="4876920" y="1295280"/>
            <a:ext cx="3809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1" descr="circulatory"/>
          <p:cNvPicPr/>
          <p:nvPr/>
        </p:nvPicPr>
        <p:blipFill>
          <a:blip r:embed="rId1"/>
          <a:stretch/>
        </p:blipFill>
        <p:spPr>
          <a:xfrm>
            <a:off x="5286240" y="0"/>
            <a:ext cx="385776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019920" cy="2514600"/>
          </a:xfrm>
          <a:prstGeom prst="rect">
            <a:avLst/>
          </a:prstGeom>
          <a:solidFill>
            <a:srgbClr val="f8a83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33cc"/>
                </a:solidFill>
                <a:uFillTx/>
                <a:latin typeface="Arial Black"/>
              </a:rPr>
              <a:t>Cardiovascular </a:t>
            </a:r>
            <a:r>
              <a:rPr b="1" lang="en-US" sz="6000" spc="-1" strike="noStrike" u="sng">
                <a:solidFill>
                  <a:srgbClr val="0033cc"/>
                </a:solidFill>
                <a:uFillTx/>
                <a:latin typeface="Arial Black"/>
              </a:rPr>
              <a:t>Syst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  </a:t>
            </a: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The heart pumps blood through blood vesse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f8a83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33cc"/>
                </a:solidFill>
                <a:uFillTx/>
                <a:latin typeface="Arial Black"/>
              </a:rPr>
              <a:t>Respiratory Syst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Lungs absorb oxygen and release carbon dioxid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lungs5c"/>
          <p:cNvPicPr/>
          <p:nvPr/>
        </p:nvPicPr>
        <p:blipFill>
          <a:blip r:embed="rId1"/>
          <a:stretch/>
        </p:blipFill>
        <p:spPr>
          <a:xfrm>
            <a:off x="2743200" y="1066680"/>
            <a:ext cx="3672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ei_0273"/>
          <p:cNvPicPr/>
          <p:nvPr/>
        </p:nvPicPr>
        <p:blipFill>
          <a:blip r:embed="rId1"/>
          <a:stretch/>
        </p:blipFill>
        <p:spPr>
          <a:xfrm>
            <a:off x="1066680" y="1373040"/>
            <a:ext cx="6782040" cy="4475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8a83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0033cc"/>
                </a:solidFill>
                <a:uFillTx/>
                <a:latin typeface="Arial Black"/>
              </a:rPr>
              <a:t>Urinary Syste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54864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Removes wastes from the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blood and regulates body flui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c4d_ice_cube_7"/>
          <p:cNvPicPr/>
          <p:nvPr/>
        </p:nvPicPr>
        <p:blipFill>
          <a:blip r:embed="rId1"/>
          <a:stretch/>
        </p:blipFill>
        <p:spPr>
          <a:xfrm>
            <a:off x="0" y="0"/>
            <a:ext cx="3038400" cy="2666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DO A</a:t>
            </a:r>
            <a:r>
              <a:rPr b="1" lang="en-US" sz="6000" spc="-1" strike="noStrike" u="sng">
                <a:solidFill>
                  <a:srgbClr val="ff0066"/>
                </a:solidFill>
                <a:uFillTx/>
                <a:latin typeface="Arial"/>
              </a:rPr>
              <a:t>N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6000" spc="-1" strike="noStrike" u="sng">
                <a:solidFill>
                  <a:srgbClr val="ff0066"/>
                </a:solidFill>
                <a:uFillTx/>
                <a:latin typeface="Arial"/>
              </a:rPr>
              <a:t>ICE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 JOB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What initially happens when the ice touches your skin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What happens after more time pass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What happens when the ice is remov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How do you think Jack Thayer managed to survive after the sinking of the Titani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f8a83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33cc"/>
                </a:solidFill>
                <a:uFillTx/>
                <a:latin typeface="Arial Black"/>
              </a:rPr>
              <a:t>Reproductive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1" lang="en-US" sz="5400" spc="-1" strike="noStrike" u="sng">
                <a:solidFill>
                  <a:srgbClr val="0033cc"/>
                </a:solidFill>
                <a:uFillTx/>
                <a:latin typeface="Arial Black"/>
              </a:rPr>
              <a:t>Syst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Females produces eggs, feed/shelter unborn baby- males produce sp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Female%20reproduction"/>
          <p:cNvPicPr/>
          <p:nvPr/>
        </p:nvPicPr>
        <p:blipFill>
          <a:blip r:embed="rId1"/>
          <a:stretch/>
        </p:blipFill>
        <p:spPr>
          <a:xfrm>
            <a:off x="2057400" y="1295280"/>
            <a:ext cx="502920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Autonomic_Nervous_System"/>
          <p:cNvPicPr/>
          <p:nvPr/>
        </p:nvPicPr>
        <p:blipFill>
          <a:blip r:embed="rId1"/>
          <a:stretch/>
        </p:blipFill>
        <p:spPr>
          <a:xfrm>
            <a:off x="1676520" y="1143000"/>
            <a:ext cx="5181480" cy="4767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8a83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33cc"/>
                </a:solidFill>
                <a:uFillTx/>
                <a:latin typeface="Arial Black"/>
              </a:rPr>
              <a:t>Nervous Syste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5790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 Black"/>
              </a:rPr>
              <a:t>Receives and sends electrical messa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029200" cy="2666880"/>
          </a:xfrm>
          <a:prstGeom prst="rect">
            <a:avLst/>
          </a:prstGeom>
          <a:solidFill>
            <a:srgbClr val="f8a83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2108da"/>
                </a:solidFill>
                <a:uFillTx/>
                <a:latin typeface="Arial Black"/>
              </a:rPr>
              <a:t>Lymphatic</a:t>
            </a:r>
            <a:r>
              <a:rPr b="1" lang="en-US" sz="6600" spc="-1" strike="noStrike" u="sng">
                <a:solidFill>
                  <a:srgbClr val="0033cc"/>
                </a:solidFill>
                <a:uFillTx/>
                <a:latin typeface="Arial Black"/>
              </a:rPr>
              <a:t> Syst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 Black"/>
              </a:rPr>
              <a:t>Returns leaked fluids to blood vessels and helps flush harmful germs ou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Lymphatic_System"/>
          <p:cNvPicPr/>
          <p:nvPr/>
        </p:nvPicPr>
        <p:blipFill>
          <a:blip r:embed="rId1"/>
          <a:stretch/>
        </p:blipFill>
        <p:spPr>
          <a:xfrm>
            <a:off x="5029200" y="0"/>
            <a:ext cx="378612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8a83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33cc"/>
                </a:solidFill>
                <a:uFillTx/>
                <a:latin typeface="Arial Black"/>
              </a:rPr>
              <a:t>Digestive Syste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 Black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33cc"/>
                </a:solidFill>
                <a:latin typeface="Arial Black"/>
              </a:rPr>
              <a:t>Breaks down food into nutrients</a:t>
            </a:r>
            <a:r>
              <a:rPr b="0" lang="en-US" sz="12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Digest3"/>
          <p:cNvPicPr/>
          <p:nvPr/>
        </p:nvPicPr>
        <p:blipFill>
          <a:blip r:embed="rId1"/>
          <a:stretch/>
        </p:blipFill>
        <p:spPr>
          <a:xfrm>
            <a:off x="4413240" y="1371600"/>
            <a:ext cx="458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P_endocrine-system"/>
          <p:cNvPicPr/>
          <p:nvPr/>
        </p:nvPicPr>
        <p:blipFill>
          <a:blip r:embed="rId1"/>
          <a:stretch/>
        </p:blipFill>
        <p:spPr>
          <a:xfrm>
            <a:off x="1828800" y="1295280"/>
            <a:ext cx="5181480" cy="4702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f8a83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33cc"/>
                </a:solidFill>
                <a:uFillTx/>
                <a:latin typeface="Arial Black"/>
              </a:rPr>
              <a:t>Endocrine Syst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8a83e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 Black"/>
              </a:rPr>
              <a:t>Glands regulate body functions by sending out chemical messa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Diagram 91"/>
          <p:cNvGrpSpPr/>
          <p:nvPr/>
        </p:nvGrpSpPr>
        <p:grpSpPr>
          <a:xfrm>
            <a:off x="2327760" y="607680"/>
            <a:ext cx="5021280" cy="5641200"/>
            <a:chOff x="2327760" y="607680"/>
            <a:chExt cx="5021280" cy="5641200"/>
          </a:xfrm>
        </p:grpSpPr>
        <p:sp>
          <p:nvSpPr>
            <p:cNvPr id="128" name="_s1028"/>
            <p:cNvSpPr/>
            <p:nvPr/>
          </p:nvSpPr>
          <p:spPr>
            <a:xfrm flipV="1">
              <a:off x="4211280" y="607320"/>
              <a:ext cx="1254600" cy="1409040"/>
            </a:xfrm>
            <a:custGeom>
              <a:avLst/>
              <a:gdLst>
                <a:gd name="textAreaLeft" fmla="*/ 450000 w 1254600"/>
                <a:gd name="textAreaRight" fmla="*/ 804600 w 1254600"/>
                <a:gd name="textAreaTop" fmla="*/ 505440 h 1409040"/>
                <a:gd name="textAreaBottom" fmla="*/ 903600 h 140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RGA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29"/>
            <p:cNvSpPr/>
            <p:nvPr/>
          </p:nvSpPr>
          <p:spPr>
            <a:xfrm flipV="1">
              <a:off x="3584160" y="2016000"/>
              <a:ext cx="2508480" cy="1411560"/>
            </a:xfrm>
            <a:custGeom>
              <a:avLst/>
              <a:gdLst>
                <a:gd name="textAreaLeft" fmla="*/ 551520 w 2508480"/>
                <a:gd name="textAreaRight" fmla="*/ 1956960 w 2508480"/>
                <a:gd name="textAreaTop" fmla="*/ 310320 h 1411560"/>
                <a:gd name="textAreaBottom" fmla="*/ 1101240 h 141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RGA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0"/>
            <p:cNvSpPr/>
            <p:nvPr/>
          </p:nvSpPr>
          <p:spPr>
            <a:xfrm flipV="1">
              <a:off x="2955240" y="3428640"/>
              <a:ext cx="3766680" cy="1409040"/>
            </a:xfrm>
            <a:custGeom>
              <a:avLst/>
              <a:gdLst>
                <a:gd name="textAreaLeft" fmla="*/ 653760 w 3766680"/>
                <a:gd name="textAreaRight" fmla="*/ 3112920 w 3766680"/>
                <a:gd name="textAreaTop" fmla="*/ 244440 h 1409040"/>
                <a:gd name="textAreaBottom" fmla="*/ 1164600 h 140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ISSU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1"/>
            <p:cNvSpPr/>
            <p:nvPr/>
          </p:nvSpPr>
          <p:spPr>
            <a:xfrm flipV="1">
              <a:off x="2327760" y="4836960"/>
              <a:ext cx="5021280" cy="1411560"/>
            </a:xfrm>
            <a:custGeom>
              <a:avLst/>
              <a:gdLst>
                <a:gd name="textAreaLeft" fmla="*/ 755280 w 5021280"/>
                <a:gd name="textAreaRight" fmla="*/ 4266000 w 5021280"/>
                <a:gd name="textAreaTop" fmla="*/ 212400 h 1411560"/>
                <a:gd name="textAreaBottom" fmla="*/ 1199160 h 141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ELL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800080"/>
                </a:solidFill>
                <a:uFillTx/>
                <a:latin typeface="Arial"/>
              </a:rPr>
              <a:t>DISCUSSION 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frontleft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6797520" y="4495680"/>
            <a:ext cx="2346480" cy="2362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152280" y="1066680"/>
            <a:ext cx="8686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xplain the relationship between cells, tissues, organs and organ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ompare the four kinds of tissues found in the human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Describe a time when homeostasis was disrupted in your bod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body systems 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think were effec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2108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8a83e"/>
                </a:solidFill>
                <a:uFillTx/>
                <a:latin typeface="Arial"/>
              </a:rPr>
              <a:t>T/F  QUICK QUI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f8a83e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meostasis is the maintenance of a stable internal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pithelial tissue sends electrical signals throughout the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od is a type of connective tis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ndocrine system consists of skin, hair, nails and their underly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s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 The lymphatic system re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ked fluids to blood vess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frontleft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6797520" y="4495680"/>
            <a:ext cx="2346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 u="sng">
              <a:solidFill>
                <a:srgbClr val="800080"/>
              </a:solidFill>
              <a:uFillTx/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ting heart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N_LuJGobrpw&amp;NR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 Black"/>
              </a:rPr>
              <a:t>HOMEOSTAS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05280" y="1828440"/>
            <a:ext cx="3124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body’s maintenance of a stable internal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hp-rip"/>
          <p:cNvPicPr/>
          <p:nvPr/>
        </p:nvPicPr>
        <p:blipFill>
          <a:blip r:embed="rId1"/>
          <a:stretch/>
        </p:blipFill>
        <p:spPr>
          <a:xfrm>
            <a:off x="2666880" y="1219320"/>
            <a:ext cx="3772080" cy="5638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6477120" y="1600200"/>
            <a:ext cx="266688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homeostasis is interrupted, cells suffer and sometimes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611520" y="2743200"/>
            <a:ext cx="2103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352680" y="3352680"/>
            <a:ext cx="2454480" cy="2837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61"/>
                </a:solidFill>
                <a:latin typeface="Arial"/>
              </a:rPr>
              <a:t>My Beloved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61"/>
                </a:solidFill>
                <a:latin typeface="Arial"/>
              </a:rPr>
              <a:t>I will miss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Black"/>
              </a:rPr>
              <a:t>THE WORK OF CE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a baseball team, every player has his jo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j0199036"/>
          <p:cNvPicPr/>
          <p:nvPr/>
        </p:nvPicPr>
        <p:blipFill>
          <a:blip r:embed="rId1"/>
          <a:stretch/>
        </p:blipFill>
        <p:spPr>
          <a:xfrm>
            <a:off x="152280" y="1219320"/>
            <a:ext cx="2973600" cy="327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MCj03010720000[1]"/>
          <p:cNvPicPr/>
          <p:nvPr/>
        </p:nvPicPr>
        <p:blipFill>
          <a:blip r:embed="rId2"/>
          <a:stretch/>
        </p:blipFill>
        <p:spPr>
          <a:xfrm>
            <a:off x="5562720" y="32767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0" y="4419720"/>
            <a:ext cx="5334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s have their own positions (or jobs) in the bod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red%20cells%20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 Black"/>
              </a:rPr>
              <a:t>RED BLOOD CEL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red%20cells%20"/>
          <p:cNvPicPr/>
          <p:nvPr/>
        </p:nvPicPr>
        <p:blipFill>
          <a:blip r:embed="rId1">
            <a:lum bright="-6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Groups of cells working together form a </a:t>
            </a:r>
            <a:r>
              <a:rPr b="1" i="1" lang="en-US" sz="4800" spc="-1" strike="noStrike">
                <a:solidFill>
                  <a:srgbClr val="ffccff"/>
                </a:solidFill>
                <a:latin typeface="Arial Black"/>
              </a:rPr>
              <a:t>TISS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4 types of tissu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pithelial Tiss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rvous Tiss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scle Tiss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nective Tiss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031206fuch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EPITHELIAL TISS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464832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vers and protects underlying tissue.  When you look at the surface of your skin, you see epithelial tiss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014-nf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 Black"/>
              </a:rPr>
              <a:t>NERVOUS TISS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48765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nds electrical signals through the body.  It is found in the brain, nerves and sense orga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uchr_01_img01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MUSCLE TISS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54100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de up of cells that can contract and relax to produce m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6T02:08:46Z</dcterms:created>
  <dc:creator>Caroline Pace</dc:creator>
  <dc:description/>
  <dc:language>en-US</dc:language>
  <cp:lastModifiedBy>jh</cp:lastModifiedBy>
  <dcterms:modified xsi:type="dcterms:W3CDTF">2010-09-25T12:24:51Z</dcterms:modified>
  <cp:revision>10</cp:revision>
  <dc:subject/>
  <dc:title>Cardiovascular System</dc:title>
</cp:coreProperties>
</file>